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CA0-F08E-4D28-ABCF-82DA2360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5A4-186E-4052-A7F5-E5CBF14F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298-58D8-4F4C-A415-78F4A512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43C-6EFC-402F-B80F-FDAC9B48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6B2A-4AEF-4C3B-B9DA-28E3037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4D0-7D8D-468B-A270-7C54BBFF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2335-CDB5-4A5D-A73A-05BEAE2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F1C0-3653-45B5-91F8-CEF9A184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6F35-F995-4336-BE78-1B113725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1670-F6E4-4ABF-9A35-9A09776E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845C-63E3-45C1-90BC-DE1C6E9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999-39F3-472C-877B-81D23383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2F6-5E70-4ED2-88AC-00EF652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2891-65E9-43BC-9E06-74BAB3F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7036-3036-4632-850C-12C84D3B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2DCF-9020-4F13-AF44-0828113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0FC0-B817-4B66-AABE-762F31E3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138-3B90-48B9-9FD9-763CF28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4EA-5597-4F96-8B97-D9917809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7DC-D1FC-4593-BD2C-3CC8051D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1FF-B1C5-4DE8-A664-AD8242B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C36-58C4-4AB1-B3A9-AF586E1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149-B751-4D5F-B29B-C95230C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6F1-9D54-4614-8192-3C0360C1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FC21-062A-4C3E-8F25-84D74F15192B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F005-1382-4BAA-8719-E47089162229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11:04Z</dcterms:created>
  <dc:creator>Bonnie Ritchey</dc:creator>
  <dc:description/>
  <dc:language>en-US</dc:language>
  <cp:lastModifiedBy>Bonnie Ritchey</cp:lastModifiedBy>
  <dcterms:modified xsi:type="dcterms:W3CDTF">2004-10-24T17:11:2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33</vt:lpwstr>
  </property>
</Properties>
</file>